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9E2-8764-416F-9273-409C4C2A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760-CFA9-4D2B-B95C-8FA771B0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5C6-CE3B-4827-BEA5-F314B377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CFD-9559-445A-9293-2E2FF897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6D2-15CD-4BD4-B65E-C552647B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468-94B1-4E50-977B-C195F00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2FA-0DB0-4D06-BA18-CFD4BD5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30B-D82C-42A6-AE14-7F5D7B16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81C-098B-4E36-B11B-C9A55B1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990-0776-4B59-8D3A-F6C0E94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EBB-4BCA-4B4F-A7ED-DE4DDD1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651-0428-4E66-AD26-8A486A0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6AEE-3B38-44A0-98EA-AF99B2E12E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11D503B4-5F23-43DE-B9AB-6406DAD51F6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ε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ε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ινε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νε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A122FA71-4597-484C-B3B0-98435E5CF6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091FDEFD-7F3F-4852-947C-A20903804C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1A187879-561B-479D-BFA5-9B10D6370C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E811D775-8D9B-4602-B266-86B7E1B0EC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C0E4EDB1-4B24-44BF-A649-63F184506B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43510860-15E0-4C9F-B389-D6FE3DF840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292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366F2A48-F894-456A-8A05-E18AC3B03B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E5E5B599-7083-4DC6-ADFC-BACF2170E9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21BE2EC1-D484-44B0-A224-B4FB00A705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49480"/>
                <a:gridCol w="22654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EDD0DF08-DE1C-410B-915E-9ADB4BD6BA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90AC283D-0A7C-49A1-99F7-67F9C8BB0D2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9CC85FEB-737B-4022-906A-4FEAB4EAB75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Aorists are formed by adding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ther group forms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E47735A3-8848-4178-8B02-DFBE66A4512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orist = Changed 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E3A1EECF-9438-4242-9CAE-23A0806BC32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34FA6422-0158-44AD-B2F3-9A32078C4D4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085C0258-9B3C-4CBE-A510-D436539A020D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fld id="{D41AFE52-66CB-4BE6-841A-EC67DFEFD165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:Grammar </a:t>
            </a:r>
            <a:fld id="{BE5E3EE9-5AD2-41EE-B61D-6D3DB0B0D3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9-07-10T23:57:48Z</dcterms:modified>
  <cp:revision>49</cp:revision>
  <dc:subject/>
  <dc:title>Slide 1</dc:title>
</cp:coreProperties>
</file>